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D2C-907D-4F4E-970A-475DF309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D53-D82C-455F-B57D-0A41E0A6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E737-B898-47A2-83AE-676BB578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3C61-C0EE-4049-9262-8DAD7625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AA8-2D7B-4559-A21A-040DD2E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F14-47B0-4463-901D-574C1285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2C9-41D0-43FA-BD26-8DD850A0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F6A-95A8-430F-A246-DC5C7999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AA3-ED62-4E28-AE32-D46E89CA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32B-D561-4EEC-AEBB-948D8B0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672F-8CD8-4A27-8008-3BE96924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1BB1-DB0C-4B3E-A134-4C65379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49F-D323-493A-99F2-E0903D969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 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matic 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seph Tepp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chin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: Sunday June 6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 word seg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word from the recognized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start/end times to sec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this command in the Mac Termi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fplay -s 46.70 47.51 lion.w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hear the w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y the custom language model instead of the FS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the same as before, but 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sg lion.fs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–lm lion.l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 fs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-mode fwd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lion.dic -fdict filler.dict -ctl lion.ctl -lm lion.l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cepdir . -cepext .wav -adcin yes -adchdr 44 -mode fwdt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the results – are they any different than with the FS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 try a generic languag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the Wall Street Journal model from your em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 decoding like last time, except 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lm wsj0vp.5000.D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 the results: should be much w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human-readable fo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lm_conv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wsj0vp.5000.DMP -ifmt DMP -o wsj.arpa -ofmt T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wsj.arpa : should explain the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ALING PHONE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Exercise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n FSG that can accept inputs l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call 213-842-1974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847-313-9900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pronunciation dictionary for all the words in the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your own input and test the recognition accu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RDERING PIZZ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Exercise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a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recognizer that can order up to two pizzas with a single speech comm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’d like to order a large pizza with mushrooms and extra chees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nt two medium pizzas, one with olives and the other with garlic and onion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yourself and test it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NUNCIATION EVAL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Theory and a step-by-step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ng a meaningful objective for score pronunciation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 / Reject a target word’s pronunc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dback for nonnative learners practicing their pronun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incorrect recognitio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a meaningful number to a pronun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it usuall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dence Scoring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probability divided by “filler” prob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486080" y="4437000"/>
                <a:ext cx="5029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O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den>
                    </m:f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≥</m:t>
                              </m:r>
                              <m:r>
                                <m:t xml:space="preserve">T</m:t>
                              </m:r>
                              <m:r>
                                <m:t xml:space="preserve">:</m:t>
                              </m:r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: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26"/>
          <p:cNvSpPr/>
          <p:nvPr/>
        </p:nvSpPr>
        <p:spPr>
          <a:xfrm>
            <a:off x="6498000" y="44197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6570000" y="487692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2041920" y="39625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rget wo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30"/>
          <p:cNvSpPr/>
          <p:nvPr/>
        </p:nvSpPr>
        <p:spPr>
          <a:xfrm flipH="1">
            <a:off x="2440080" y="4267080"/>
            <a:ext cx="39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4048560" y="5867280"/>
            <a:ext cx="149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Remember m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33"/>
          <p:cNvSpPr/>
          <p:nvPr/>
        </p:nvSpPr>
        <p:spPr>
          <a:xfrm>
            <a:off x="4191120" y="53341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51"/>
          <p:cNvSpPr/>
          <p:nvPr/>
        </p:nvSpPr>
        <p:spPr>
          <a:xfrm>
            <a:off x="6624000" y="5943600"/>
            <a:ext cx="9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resho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6372360" y="53341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3"/>
          <p:cNvSpPr/>
          <p:nvPr/>
        </p:nvSpPr>
        <p:spPr>
          <a:xfrm>
            <a:off x="1246680" y="55627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ed spee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54"/>
          <p:cNvSpPr/>
          <p:nvPr/>
        </p:nvSpPr>
        <p:spPr>
          <a:xfrm flipV="1">
            <a:off x="2536920" y="502920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9"/>
          <p:cNvSpPr/>
          <p:nvPr/>
        </p:nvSpPr>
        <p:spPr>
          <a:xfrm>
            <a:off x="2982600" y="327672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oustic model probability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turned by align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5422320" y="3581280"/>
            <a:ext cx="30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nguage model probability: s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20"/>
          <p:cNvSpPr/>
          <p:nvPr/>
        </p:nvSpPr>
        <p:spPr>
          <a:xfrm flipH="1">
            <a:off x="3504960" y="3860640"/>
            <a:ext cx="718920" cy="63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22"/>
          <p:cNvSpPr/>
          <p:nvPr/>
        </p:nvSpPr>
        <p:spPr>
          <a:xfrm flipH="1">
            <a:off x="4800600" y="3885480"/>
            <a:ext cx="806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call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speech recognitio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gnize likely sequences of 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eck a nice like lease eek Gwen says off word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ode a small vocabulary of phonetically dissimilar words that it’s told to exp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y bill” - “Check Balance” - “Oth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ign objective scores for pronunciation 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can’t always do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where each word / phoneme begins &amp; ends in a speech recor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if the words are known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we estimate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gn just that word with a “filler” (substitution)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fill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words we might exp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if target is “lion”, filler could be “lying”, “leon”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enc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phoneme recognition (without a word grammar or diction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one best way for all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ing a single w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ut “captivity” out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lion.wa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ox lion.wav captivity.wav trim 6.79 0.6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Make FSG and ctl file just for one word: “captivity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Get acoustic score just for “captivity” al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lion.dic -fdict filler.dict -ctl captivity.ctl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fsg captivity.fsg -cepdir . -cepext .wav -adcin yes -adchdr 44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e fs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ourier New"/>
              </a:rPr>
              <a:t>Get acoustic score for free phoneme recogn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mode all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 “total” acoustic sc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n question: how to define threshold for accept / re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uld minimize false acceptance &amp; false rejection over many examp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Picture 6.png"/>
          <p:cNvPicPr/>
          <p:nvPr/>
        </p:nvPicPr>
        <p:blipFill>
          <a:blip r:embed="rId1"/>
          <a:stretch/>
        </p:blipFill>
        <p:spPr>
          <a:xfrm>
            <a:off x="4743360" y="1600200"/>
            <a:ext cx="4324320" cy="218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Picture 7.png"/>
          <p:cNvPicPr/>
          <p:nvPr/>
        </p:nvPicPr>
        <p:blipFill>
          <a:blip r:embed="rId2"/>
          <a:stretch/>
        </p:blipFill>
        <p:spPr>
          <a:xfrm>
            <a:off x="130320" y="1646280"/>
            <a:ext cx="44416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ECH ALIGN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step-by-step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lig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ssu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know the text beforeh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know all the expected pronun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 g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segmentations: start / end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 scores (probabilit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k your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up “Lion” in wikip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agraph: “Lions live for ten to fourteen years in the wild…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Picture 1.png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yourself reading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udacity (or something else, if you pref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ure (as always in speech recogn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in mo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’s sampled at 16000 Hz and encoded with 16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rt in .wav format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on.wa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 is just right: not too loud or too qu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Picture 2.png"/>
          <p:cNvPicPr/>
          <p:nvPr/>
        </p:nvPicPr>
        <p:blipFill>
          <a:blip r:embed="rId1"/>
          <a:stretch/>
        </p:blipFill>
        <p:spPr>
          <a:xfrm>
            <a:off x="1447920" y="4951440"/>
            <a:ext cx="609588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e your language model and pronunciation diction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site will do it for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www.speech.cs.cmu.edu/tools/lmtool-new.htm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ave the text in a text file (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ion.tx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and then submit 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wnloa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dic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l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name them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ion.d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ion.l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ok at them and make sure they look ok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Picture 3.png"/>
          <p:cNvPicPr/>
          <p:nvPr/>
        </p:nvPicPr>
        <p:blipFill>
          <a:blip r:embed="rId1"/>
          <a:stretch/>
        </p:blipFill>
        <p:spPr>
          <a:xfrm>
            <a:off x="1066680" y="3149640"/>
            <a:ext cx="691992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e your Finite State Gram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JSG form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w3.org/TR/jsgf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as lion.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Sphinx FSG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base-0.6/src/sphinx_jsgf2fsg/sphinx_jsgf2fsg &lt; lion.gram &gt; lion.fs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on.fs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make sure it looks ok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2603160" y="12193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147320" y="121932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080960" y="12193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707520" y="121932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5500080" y="121932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838080" y="1371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7696080" y="14079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6324480" y="14079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5029200" y="140796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3505320" y="137160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21"/>
          <p:cNvSpPr/>
          <p:nvPr/>
        </p:nvSpPr>
        <p:spPr>
          <a:xfrm flipV="1">
            <a:off x="903240" y="1402920"/>
            <a:ext cx="239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22"/>
          <p:cNvSpPr/>
          <p:nvPr/>
        </p:nvSpPr>
        <p:spPr>
          <a:xfrm>
            <a:off x="1811160" y="1403280"/>
            <a:ext cx="32256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24"/>
          <p:cNvSpPr/>
          <p:nvPr/>
        </p:nvSpPr>
        <p:spPr>
          <a:xfrm flipV="1">
            <a:off x="2198520" y="1402920"/>
            <a:ext cx="401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27"/>
          <p:cNvSpPr/>
          <p:nvPr/>
        </p:nvSpPr>
        <p:spPr>
          <a:xfrm flipH="1" flipV="1">
            <a:off x="3108240" y="1402920"/>
            <a:ext cx="40824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traight Connector 29"/>
          <p:cNvSpPr/>
          <p:nvPr/>
        </p:nvSpPr>
        <p:spPr>
          <a:xfrm flipV="1">
            <a:off x="3570120" y="1402920"/>
            <a:ext cx="509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30"/>
          <p:cNvSpPr/>
          <p:nvPr/>
        </p:nvSpPr>
        <p:spPr>
          <a:xfrm>
            <a:off x="4532400" y="1403280"/>
            <a:ext cx="496800" cy="42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32"/>
          <p:cNvSpPr/>
          <p:nvPr/>
        </p:nvSpPr>
        <p:spPr>
          <a:xfrm flipV="1">
            <a:off x="5094360" y="1403280"/>
            <a:ext cx="40320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33"/>
          <p:cNvSpPr/>
          <p:nvPr/>
        </p:nvSpPr>
        <p:spPr>
          <a:xfrm>
            <a:off x="5994360" y="1403280"/>
            <a:ext cx="330120" cy="42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36"/>
          <p:cNvSpPr/>
          <p:nvPr/>
        </p:nvSpPr>
        <p:spPr>
          <a:xfrm flipV="1">
            <a:off x="6389640" y="1403280"/>
            <a:ext cx="31608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37"/>
          <p:cNvSpPr/>
          <p:nvPr/>
        </p:nvSpPr>
        <p:spPr>
          <a:xfrm>
            <a:off x="7086600" y="1403280"/>
            <a:ext cx="609480" cy="42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58"/>
          <p:cNvSpPr/>
          <p:nvPr/>
        </p:nvSpPr>
        <p:spPr>
          <a:xfrm>
            <a:off x="8002800" y="12556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60" descr="Picture 4.png"/>
          <p:cNvPicPr/>
          <p:nvPr/>
        </p:nvPicPr>
        <p:blipFill>
          <a:blip r:embed="rId1"/>
          <a:stretch/>
        </p:blipFill>
        <p:spPr>
          <a:xfrm>
            <a:off x="1905120" y="3065400"/>
            <a:ext cx="57909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decoding with the FS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on.ct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text file that just has audio file name without extention: “lion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exactly like last ti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lion.dic -fdict filler.dict -ctl lion.ctl -fsg lion.fs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cepdir . -cepext .wav -adcin yes -adchdr 44 -mode fs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alignmen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Picture 5.png"/>
          <p:cNvPicPr/>
          <p:nvPr/>
        </p:nvPicPr>
        <p:blipFill>
          <a:blip r:embed="rId1"/>
          <a:stretch/>
        </p:blipFill>
        <p:spPr>
          <a:xfrm>
            <a:off x="762120" y="4800600"/>
            <a:ext cx="76896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9:06:55Z</dcterms:created>
  <dc:creator>Joseph Tepperman</dc:creator>
  <dc:description/>
  <dc:language>en-US</dc:language>
  <cp:lastModifiedBy>Joseph Tepperman</cp:lastModifiedBy>
  <dcterms:modified xsi:type="dcterms:W3CDTF">2010-06-06T20:04:33Z</dcterms:modified>
  <cp:revision>103</cp:revision>
  <dc:subject/>
  <dc:title>Automatic Speech Recognition</dc:title>
</cp:coreProperties>
</file>